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9606-D7E5-4B36-B1C1-6D34C3F98C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705-EC2B-4550-BF20-060E271F0E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766-CC2D-4A19-9736-BB93C2337D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EFF-6931-4C9D-A870-35A7A2A207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7937-A8FF-4626-9D62-B9FDC38CD8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E02-87E3-47A6-AD90-FF9FD15EA6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737-C9EB-40DD-AC03-DFA35984F9C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EC0-60C7-426A-A2BA-9885ACF96B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3"/>
          <p:cNvSpPr/>
          <p:nvPr/>
        </p:nvSpPr>
        <p:spPr>
          <a:xfrm>
            <a:off x="0" y="981000"/>
            <a:ext cx="9906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25" descr="bacia2"/>
          <p:cNvPicPr/>
          <p:nvPr/>
        </p:nvPicPr>
        <p:blipFill>
          <a:blip r:embed="rId2"/>
          <a:stretch/>
        </p:blipFill>
        <p:spPr>
          <a:xfrm>
            <a:off x="0" y="-27000"/>
            <a:ext cx="990612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Line 24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" name="Picture 33" descr="logo"/>
          <p:cNvPicPr/>
          <p:nvPr/>
        </p:nvPicPr>
        <p:blipFill>
          <a:blip r:embed="rId3"/>
          <a:stretch/>
        </p:blipFill>
        <p:spPr>
          <a:xfrm>
            <a:off x="304920" y="79200"/>
            <a:ext cx="1911240" cy="838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4" descr="Logo Governo"/>
          <p:cNvPicPr/>
          <p:nvPr/>
        </p:nvPicPr>
        <p:blipFill>
          <a:blip r:embed="rId4"/>
          <a:stretch/>
        </p:blipFill>
        <p:spPr>
          <a:xfrm>
            <a:off x="0" y="6356520"/>
            <a:ext cx="17827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stado atual do processo de instalação do CBH Piranhas-Açu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773000"/>
            <a:ext cx="8915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1/2006- Instituído o CBH-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2/2006- Nomeação d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bril 2007- Nomeação nov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unho 2007 – Prorrogação mandato da Diretoria Provisória e do prazo para instalação d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tembro2007-1ª reunião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Out 2007-Oficina de Planejamento do processo de instalação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Dez 2007 - Prorrogação pelo CNRH do mandato da Diretoria Provisória e do prazo para instalação do Comitê (até dez 2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an 2008-Instituição do Grupo de Apoio a Diretoria Provisór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1°semestre 2008- Reuniões da Direp e Grupo de Apo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Lançamento das Resoluções nº 03 e nº05, respectivamente tratam das Normas do Processo Eleitoral e Composiçã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999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ahoma"/>
              </a:rPr>
              <a:t>Composição do CBH Piranhas-Açu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3800" y="2071800"/>
          <a:ext cx="8915400" cy="212544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íb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 Grande do Nor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Públic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+2 Uniã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ário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edade Civi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Execução do processo a cargo de empresa contratada com recursos do PROÁGU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mpresa contratada: ADESE-Agência de Desenvolvimento Sustentável do Serid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 coordenadores-1 para cada Est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mobilizadores- inicialmente 12 mobilizadores depois reduzidos para 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105264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ncontros regionais de mobilização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, Pombal, Cajazeiras e Itaporang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 e Assú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lenárias Eleitora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(2), Pombal e Cajazei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, Assú e Currais Nov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ssembléia de Posse e eleição da Diretor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aterial de divulgação:spots radiofônicos folhetos, cartazes, banners, faix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1071720"/>
          <a:ext cx="8915400" cy="4417920"/>
        </p:xfrm>
        <a:graphic>
          <a:graphicData uri="http://schemas.openxmlformats.org/drawingml/2006/table">
            <a:tbl>
              <a:tblPr/>
              <a:tblGrid>
                <a:gridCol w="1273320"/>
                <a:gridCol w="1274760"/>
                <a:gridCol w="1272960"/>
                <a:gridCol w="1273320"/>
                <a:gridCol w="1273320"/>
                <a:gridCol w="1274760"/>
                <a:gridCol w="1272960"/>
              </a:tblGrid>
              <a:tr h="588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grama instalação do CBH Piranhas-Açu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ção da Empresa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Material Gráfic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na de Capacitação Mobilizador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ção Socia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1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ntros Regionai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3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 de Inscrições e habilit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ária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éia de Poss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6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UI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BRIG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retoria Provisória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ww.piranhasacu.cbh.gov.b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1:45Z</dcterms:created>
  <dc:creator>zecarlos</dc:creator>
  <dc:description/>
  <dc:language>en-US</dc:language>
  <cp:lastModifiedBy>zecarlos</cp:lastModifiedBy>
  <cp:lastPrinted>2001-06-06T00:02:34Z</cp:lastPrinted>
  <dcterms:modified xsi:type="dcterms:W3CDTF">2008-11-26T13:05:17Z</dcterms:modified>
  <cp:revision>54</cp:revision>
  <dc:subject/>
  <dc:title>Slide 1</dc:title>
</cp:coreProperties>
</file>